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ct" ContentType="image/x-pict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092240"/>
            <a:ext cx="10464840" cy="368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11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4876560"/>
            <a:ext cx="10464840" cy="222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3098880"/>
            <a:ext cx="10464840" cy="355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11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690840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11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marL="433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bf2"/>
                </a:solidFill>
                <a:latin typeface="Futura Condensed"/>
              </a:rPr>
              <a:t>Click to edit the title text format</a:t>
            </a:r>
            <a:endParaRPr b="0" lang="en-US" sz="8000" spc="-1" strike="noStrike">
              <a:solidFill>
                <a:srgbClr val="fffbf2"/>
              </a:solidFill>
              <a:latin typeface="Futura Condense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293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1335240" indent="-13352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189756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marL="250524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marL="310176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marL="369828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marL="369828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marL="369828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1335240" indent="-13352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189756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marL="250524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marL="310176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marL="369828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marL="369828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marL="369828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600" y="2781360"/>
            <a:ext cx="683280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1089720" indent="-10897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154836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marL="20444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marL="253116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marL="30182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marL="30182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marL="30182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12600" y="1091880"/>
            <a:ext cx="12979440" cy="756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535040" indent="-15350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2181240" indent="-9493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marL="2879640" indent="-9493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marL="3565440" indent="-9493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marL="4251240" indent="-9493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marL="4251240" indent="-9493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marL="4251240" indent="-9493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46920" y="2781360"/>
            <a:ext cx="530856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1000"/>
          </a:bodyPr>
          <a:p>
            <a:pPr marL="951840" indent="-93636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1222920" indent="-93636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marL="1501560" indent="-93636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marL="1780560" indent="-93636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marL="2067480" indent="-93636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marL="2067480" indent="-93636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marL="2067480" indent="-93636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600" y="2781360"/>
            <a:ext cx="683280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1089720" indent="-10897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154836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marL="20444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marL="253116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marL="30182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marL="30182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marL="30182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hyperlink" Target="http://www.youtube.com/watch?v=wN1_yS6_5T4" TargetMode="External"/><Relationship Id="rId4" Type="http://schemas.openxmlformats.org/officeDocument/2006/relationships/hyperlink" Target="http://en.wikipedia.org/wiki/Narcolepsy" TargetMode="External"/><Relationship Id="rId5" Type="http://schemas.openxmlformats.org/officeDocument/2006/relationships/hyperlink" Target="http://www.esqueeky.com/tips/narcolepsy.gif" TargetMode="External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1092240"/>
            <a:ext cx="10464840" cy="368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ffff"/>
                </a:solidFill>
                <a:latin typeface="Futura Condensed"/>
              </a:rPr>
              <a:t>Narcolepsy</a:t>
            </a:r>
            <a:endParaRPr b="0" lang="en-US" sz="11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4876560"/>
            <a:ext cx="10464840" cy="222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Psychology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Did you know that...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58580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marL="158580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marL="158580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marL="1585800" indent="-1535040">
              <a:lnSpc>
                <a:spcPct val="100000"/>
              </a:lnSpc>
              <a:spcBef>
                <a:spcPts val="2801"/>
              </a:spcBef>
              <a:buSzPct val="1594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1 out of every 2000 Americans suffer from this disease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4381560" y="3149640"/>
            <a:ext cx="424188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What is narcolepsy?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585800" indent="-1535040">
              <a:lnSpc>
                <a:spcPct val="100000"/>
              </a:lnSpc>
              <a:spcBef>
                <a:spcPts val="2801"/>
              </a:spcBef>
              <a:buSzPct val="1594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A chronic sleep disorder characterized by overwhelming daytime drowsiness and sudden attacks of sleep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Doggy Narcolepsy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585800" indent="-1535040">
              <a:lnSpc>
                <a:spcPct val="100000"/>
              </a:lnSpc>
              <a:spcBef>
                <a:spcPts val="2801"/>
              </a:spcBef>
              <a:buSzPct val="1594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  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pic>
        <p:nvPicPr>
          <p:cNvPr id="459" name="narcolepsy.ppt_media/9d70b91ce1313239.mov" descr=""/>
          <p:cNvPicPr/>
          <p:nvPr/>
        </p:nvPicPr>
        <p:blipFill>
          <a:blip r:embed="rId3"/>
          <a:stretch/>
        </p:blipFill>
        <p:spPr>
          <a:xfrm>
            <a:off x="3429000" y="2460600"/>
            <a:ext cx="6134040" cy="46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What causes it?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58580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marL="158580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marL="158580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marL="1585800" indent="-1535040">
              <a:lnSpc>
                <a:spcPct val="100000"/>
              </a:lnSpc>
              <a:spcBef>
                <a:spcPts val="2801"/>
              </a:spcBef>
              <a:buSzPct val="1594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aused by the brain’s inability to regulate sleep-wake cycles normally.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3530520" y="2527200"/>
            <a:ext cx="594360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What are the symptoms?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585800" indent="-1535040">
              <a:lnSpc>
                <a:spcPct val="100000"/>
              </a:lnSpc>
              <a:spcBef>
                <a:spcPts val="2801"/>
              </a:spcBef>
              <a:buSzPct val="1594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excessive daytime sleepiness (EDS)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marL="1585800" indent="-1535040">
              <a:lnSpc>
                <a:spcPct val="100000"/>
              </a:lnSpc>
              <a:spcBef>
                <a:spcPts val="2801"/>
              </a:spcBef>
              <a:buSzPct val="1594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ataplexy (sudden loss of voluntary muscle tone)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marL="1585800" indent="-1535040">
              <a:lnSpc>
                <a:spcPct val="100000"/>
              </a:lnSpc>
              <a:spcBef>
                <a:spcPts val="2801"/>
              </a:spcBef>
              <a:buSzPct val="1594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vivid hallucinations during sleep onset or upon wakening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marL="1585800" indent="-1535040">
              <a:lnSpc>
                <a:spcPct val="100000"/>
              </a:lnSpc>
              <a:spcBef>
                <a:spcPts val="2801"/>
              </a:spcBef>
              <a:buSzPct val="1594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brief episodes of total paralysis at the beginning or end of sleep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Treatments?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585800" indent="-1535040">
              <a:lnSpc>
                <a:spcPct val="100000"/>
              </a:lnSpc>
              <a:spcBef>
                <a:spcPts val="2801"/>
              </a:spcBef>
              <a:buSzPct val="1594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ere is no cure for narcolepsy.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marL="1585800" indent="-1535040">
              <a:lnSpc>
                <a:spcPct val="100000"/>
              </a:lnSpc>
              <a:spcBef>
                <a:spcPts val="2801"/>
              </a:spcBef>
              <a:buSzPct val="1594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However people with narcolepsy can try to regulate their sleep patterns and avoid drinking caffeine containing beverages and alcohol before bedtime.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Severity?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58580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marL="158580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marL="158580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marL="1585800" indent="-1535040">
              <a:lnSpc>
                <a:spcPct val="100000"/>
              </a:lnSpc>
              <a:spcBef>
                <a:spcPts val="2801"/>
              </a:spcBef>
              <a:buSzPct val="1594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e symptoms of narcolepsy develop during the first two decades of the first symptoms but as the patients get over the age of 60 severity decreases.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4788000" y="2286000"/>
            <a:ext cx="341604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Citation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585800" indent="-1535040">
              <a:lnSpc>
                <a:spcPct val="100000"/>
              </a:lnSpc>
              <a:spcBef>
                <a:spcPts val="2801"/>
              </a:spcBef>
              <a:buSzPct val="1594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2d4141"/>
                </a:solidFill>
                <a:uFillTx/>
                <a:latin typeface="Futura Condensed"/>
              </a:rPr>
              <a:t>http://www.ninds.nih.gov/disorders/narcolepsy/narcolepsy.htm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marL="158580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72" name=""/>
          <p:cNvSpPr/>
          <p:nvPr/>
        </p:nvSpPr>
        <p:spPr>
          <a:xfrm>
            <a:off x="-339120" y="6390720"/>
            <a:ext cx="13309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9999"/>
                </a:solidFill>
                <a:uFillTx/>
                <a:latin typeface="Futura Condensed"/>
                <a:ea typeface="Futura Condensed"/>
                <a:hlinkClick r:id="rId3"/>
              </a:rPr>
              <a:t>http://www.youtube.com/watch?v=wN1_yS6_5T4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73" name=""/>
          <p:cNvSpPr/>
          <p:nvPr/>
        </p:nvSpPr>
        <p:spPr>
          <a:xfrm>
            <a:off x="52920" y="3012480"/>
            <a:ext cx="10857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9999"/>
                </a:solidFill>
                <a:uFillTx/>
                <a:latin typeface="Futura Condensed"/>
                <a:ea typeface="Futura Condensed"/>
                <a:hlinkClick r:id="rId4"/>
              </a:rPr>
              <a:t>http://en.wikipedia.org/wiki/Narcolepsy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74" name=""/>
          <p:cNvSpPr/>
          <p:nvPr/>
        </p:nvSpPr>
        <p:spPr>
          <a:xfrm>
            <a:off x="-345960" y="7610040"/>
            <a:ext cx="12479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9999"/>
                </a:solidFill>
                <a:uFillTx/>
                <a:latin typeface="Futura Condensed"/>
                <a:ea typeface="Futura Condensed"/>
                <a:hlinkClick r:id="rId5"/>
              </a:rPr>
              <a:t>http://www.esqueeky.com/tips/narcolepsy.gif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